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790D-73B8-4570-9E68-9441DD17A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sty web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DCBE-9EED-436F-B588-B8BFAD90A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rch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1780-9449-4106-B9CF-2040874D3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 of website to help people get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6AAF-99F9-4CB2-A81B-929DE759D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B4CF-C557-4102-8405-0AFBBA1BE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siness can get their information on this p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9C22-1839-45E2-A43D-284ECCC8D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they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E1A7-8AD3-4135-9099-478552D5B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siness ne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8EE2-FFBD-41F4-AA1D-81E7CDF22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newt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F71-90A3-4CED-8C28-87E0A6079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8A5-4B5B-4E21-9189-16C85FE8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0D6-E41E-407C-A2F4-D699619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B39-4517-4A31-A3B1-89AEDE61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9A8-9BC7-4BE8-95B1-397AC176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AA2-6971-4E99-BE3B-155C0EAC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053-C708-4898-85B2-7E04D6DF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124-CB0C-4071-BF72-7FCEE91B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90D-2185-4DD1-B251-6349E68C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CEC-18B2-422E-BB78-73BB51F9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3E8-0162-4755-BA4D-3EA137EB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21A-C30E-4497-A157-95D233BE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64B-02F8-4EBB-9D7B-0FA9FCD1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27F1-7674-4F5C-B95D-70BF96282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8:00:53Z</dcterms:created>
  <dc:creator>ccstudent</dc:creator>
  <dc:description/>
  <dc:language>en-US</dc:language>
  <cp:lastModifiedBy>ccstudent</cp:lastModifiedBy>
  <dcterms:modified xsi:type="dcterms:W3CDTF">2011-02-06T20:03:30Z</dcterms:modified>
  <cp:revision>11</cp:revision>
  <dc:subject/>
  <dc:title>Slide 1</dc:title>
</cp:coreProperties>
</file>